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A9C8-26E4-4C78-843E-3834439D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5F49-1560-4500-83C5-0B35D78F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31A9-E5F0-4E64-B1C7-275D74D3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AC62-EC2F-4935-A187-CB032707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43AA-3AFA-4027-BA07-B7F38C0B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E03-327E-4C26-A01C-6D4FD9B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0757-8F70-4250-979A-BB15132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DC61-A155-4015-8EED-D3BC50B6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A72B-9D21-491E-9E17-3EC272B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43B0-45A8-4E26-95FD-60BA3D46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CD5A-E7C9-410C-AB45-9B66AED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0776-37D6-4B89-9C1D-C6A7A35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7A1A-11F6-4B26-A6D2-5031008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8BA-1700-4EA0-AF7F-254E6CE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A2F-86A2-4411-A5F3-EB85CEA9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05D1-1204-4750-BF6C-6CA87B2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6578-70A1-4D80-B43A-929F1DD7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C9ED-D2C9-4AE6-AA50-7175CD8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A4B9-63FA-4F6E-8C33-F5E9273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45B2-D4DB-48BD-89A3-A4947120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5E85-8EDA-4139-89A0-8EE8C3E9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2FD3-18F5-4663-B20D-C8B2E99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BD62-300D-4958-B02B-E3BCD122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2674-E329-4332-8FF2-6FC151B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97C7-4605-4957-89C3-5E9F02F2D1A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D33-4BB0-4FD3-B752-611E827DC4F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Теб се казва, малко стадо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рага се ти не б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ушай, що Исус ти каз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Спасителят е т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й, светии, разгласе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овото, не бойте с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аш Отец във небеса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царството ще ви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05992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Ваш Отец във небесата :] (3) царството ще ви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5335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о не чакайте вий ту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желае грешна пл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против греха в борб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ки нек' се предад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ко и да ни преследв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рнят с хулни слове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м Исус ще ни приготв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н дом във небе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05992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Ваш Отец във небесата :] (3) царството ще ви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35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И венец очаква тез, щ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зват Неговий закон; победителите всич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га Той на Своя тро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крепете се от свиш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зпръсвайте светл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 славний ден наста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яга нощна тъмни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05992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Ваш Отец във небесата :] (3) царството ще ви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53352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Да не губим ние търпение, утринна звезда веч гре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атно слънце на ден веч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оро вече ще изгре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двайте се, Господ ид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акар се не знай в кой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л бъдете вий готов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ви вземе ваший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205992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Ваш Отец във небесата :] (3) царството ще ви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4:50Z</dcterms:modified>
  <cp:revision>94</cp:revision>
  <dc:subject/>
  <dc:title>Slide 1</dc:title>
</cp:coreProperties>
</file>